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2CB9-97DC-4B18-BCA3-B4F30806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9C36-6786-4285-9782-AC009E6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B1D6-C5FC-4907-AA8F-F0857ABC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2391-1E66-4B5E-950F-6F0F8384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948-630B-4362-B88C-A9B58267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2EAF-8C2C-43B4-80D6-D07325D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6997-70B4-4AE6-83EF-2269CCAB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AB97-E95D-4CD3-BCF6-4F831433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E715-77F7-4379-9DB1-D56C69C4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EBB-64CB-4D6D-B984-55DC266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13B-EDDC-4B06-A752-D3DB4A03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9FCC-4214-4D16-8282-4CE3040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2296-BF93-4119-AE02-AC0E647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19B-3E8E-426A-9F31-260B4DF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D1FF-5228-4EB8-9C8A-47F7332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7A18-CDE4-4D9E-9869-1C9DDFC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57E0-24DB-4D69-AB35-096234F3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E286-0758-46C9-B9DD-B5BD84DC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7602-B8D6-44BE-B766-AD3668D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F8E2-8D04-40CE-B15B-2DCE182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518A-9587-4447-A3A7-88ACCDC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8914-90C2-4632-92EA-DC75E375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B4A6-7C37-414D-BA99-6387589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640F-1C47-41F0-9B4A-FF4F4DC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9F42-5033-48F0-8FDB-926735F52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EFC-7422-4E03-A6CE-4C3C68738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e.jmu.edu/mathvidsr/inst_strat/descrip/cra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eaching Strategies for Engaging English Learners (EL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SC 440S Resou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617220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by Grace Cho, PhD. and Debra Ambrosetti, PhD.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Build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arify expressions, words, and symbols that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rationalize, column, table, simpl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X and(.) Indicate the multipl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ach technical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percentage, square roo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ree given one term, the students generate 3-4 words that denote the sam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ubtraction = take away, minus or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Building Strategi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nd generate attributes, examples and non-examples of a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geoboard, have students identify the unique characteristics of a shape they hav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provide and explain an analogy based on content/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numbers are like the overdrawn amount in a checking accou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Tap Prior Knowledg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Link concep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explicitly to students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background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Restaurant bill –calculating the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ercentage of taxes taken out of a pay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ales dis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hile giving examples, use vocabulary relevant to the students’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Links explicitly made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ast learning and new concepts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students make the connection between what they know to what they need to learn for m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ultiplication is repeated addi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ncept maps to relate prior knowledge to new concepts and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ssess or vali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OD—Problem of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KWL- What I know, what I want to know, and what I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e Academic Lear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study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ornell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of a student pl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Questio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ccommodate different learning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Visual (Graphs, charts, tables) auditory (discussion, lecture), kinesthetic (manipulative,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visual side of math since many students may not be auditory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cues such as: facial expressions, body language and visual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ncrete manipulatives such as base ten blocks, geoboards, algebra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Use Curriculum 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dapt the text to the language level of 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ailor the curriculum to meet ELs’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ssist students in rewriting word problems in simpler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ach content concepts which are appropriate for age and educational background levels of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Use supplementary materials to make the lesson clear and interesting (e.g., graphs, models, visuals, trade books,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onsider Affective Issu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Demonst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to cultural &amp;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lternative grouping and interac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terogeneous cooperative learning groups, think-pair-share, peer work, peer evaluations, jigs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os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upportive learn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(i.e. low anxiety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En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elaborated 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in Teacher student 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m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an you tell me mor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nd how would you do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ould you explain that to th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Use variety of Assessment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uthentic or ”real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erview, portfolio, quick write (“In one paragraph, explain the Pythagorean theorem.”), teacher observation, project, demon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ways of showing concept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odif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ms of assessments to fi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graphic organizers, oral presentations, student generated test, concept maps,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your students’ backgro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ister a Needs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your students’ math levels—(pre-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students’ attitudes towards m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the background and prior experiences of students (e.g., cultural, linguistic abilities, educational experienc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 aware of cultural differences and include modifications in order to develop a culturally relevant curricul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In some cultures,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finding the answer is not as valued as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teacher asks students to “show their work”, students may not understand this action because the process is a mental action and not computed on paper—the “work” is done in thei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sitive learning environment in order to diminish math anxiety and maximize learning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owing for controlled social inte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ilize group work/cooperative learning effectively and corre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corporating consistent and established structure into class procedur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procedures/routines—where to hand in homework, get paper, text book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organization—seating arrangement, free walk spaces, teacher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e all students regardless of gender, race, eth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the historical expectations/stereotypes of certa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females in math related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s excel in ma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bject matter interesting, engage students i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ntent relevant and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ystify Myths about Math as a Universal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ivers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ple concepts are universal i.e. simple concrete number algorithms (2+2=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 Univers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ther aspects of Math are difficult because of langua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“a” and “th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tim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ber is 3 more than 10 tim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ber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all cultures use math, or math symbols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se of “period (.)” instead of “coma (,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mals are indicated by a period in English and a comma in many other languages. Commas as used in English, may be indicated by a period in many other 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thousand (2,000  in English): (2.000 in Spanish, Germa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panish and some other languages the day is written first, followed by the month, then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7, 2003: Spanish: 27-01-03; English: 01-17-03; Korean: 2003. 1. 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May be written as military time: 14:00 hours as opposed to 2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suremen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ic system (kilogram, meter, liter) vs. English system (inches, feet, pounds, c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Invite and Involv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Note: Don’t make assumptions—parents from certain cultures may be absent from the school environment as a sign of respect for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your lessons for ELs by incorporating the following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se strategies are not to be used in isolation and they should complement the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ifications for 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must contain both content and languag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need many opportunities to learn all academic aspects and complexities of Math (content) while developing communicative competence in English (language skil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udents should be given ample opportuniti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arify key concepts in their first language (L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as needed with an aide, peer, or L1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ontextu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the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gress concepts from concrete to abstract by using math manipulative, games, realia, vis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the process of solving mathematical problems by using pictures and mode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Visualization-- abstract to concrete conceptualization. The ability to explain the concept in concret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should provide connections to key problem solving strategies that assist students during mathematical challe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students to make connections within the subject and in the real world, to reason mathematically, verify their findings, solve real world problems, communicate their thinking about math…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any and continuous opportunities to learn complexities of m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61722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dditional ideas, see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oncrete-Representational-Abstr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Employ Speech Mod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language that is appropriate for profici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more pause between phrases, enunciation, and simple sentence structure for beg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early explain the academic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peak slowly and clearly without overdo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vide sufficient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a variety of techniques/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to make content concepts c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visuals, hands-on activities, demonstrations, gestures, body language a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evelop and emphasize technical (content)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oduce, write, repeat, and highlight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vocabulary building strategies 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Display a chart depicting commonly used 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Pt. = pint, lb.=pounds, ft.=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ly review previously learned key 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out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learning, in which skills are developed slowly over time through repetition and extension, is an effective strategy for thi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key terms whenever neces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mathematical terms that may be too abstract or conf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of 2-digit numbers: review product, sum, carry, exchange and eq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e key vocabulary using visuals, realia, modeling and demonst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9:38:58Z</dcterms:created>
  <dc:creator>Campus User</dc:creator>
  <dc:description/>
  <dc:language>en-US</dc:language>
  <cp:lastModifiedBy>Murphy Home</cp:lastModifiedBy>
  <dcterms:modified xsi:type="dcterms:W3CDTF">2010-04-24T20:14:02Z</dcterms:modified>
  <cp:revision>21</cp:revision>
  <dc:subject/>
  <dc:title>Teaching Strategies for Engaging English Learners (ELs)</dc:title>
</cp:coreProperties>
</file>